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21F-6A77-41D0-83E9-B9C2C39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0B3-4660-4E16-A116-2639267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52547-8FC7-41A4-8AA0-012E62A3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83B86-13AA-411A-8F88-64ED1458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2168C-3FA5-4198-A825-380564B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E169A-98A4-4AC3-88B1-36D858C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E3D1F-A6B7-4BB4-9890-B115AD6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45C34-E04A-4DBC-AF6F-83871E5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6C7D8-928E-4D03-B4FB-6F2D9B1B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02F3B-D9FA-4C72-BCD9-82271910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91201-CCDE-46A8-927A-D1A0A5E7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64F52-C3A4-4D84-B678-03BA1EFF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9BA-0962-4603-8AFC-73EF35D4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DCCB3-8945-4A46-9BDA-F924C247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2DCEF-0275-4E29-86C2-1DEEB578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8DA56-5386-430D-9962-499C8EF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9EE8E-5CB8-435D-B802-C78DF4B8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76843-08F7-4F5F-868D-0116A1ED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CB14E-A3D4-42CF-A78E-B535CC53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C7FAB-A1D7-4AA6-8544-F60F028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13ECF-DC5D-402B-8D49-381B5FD8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299D-5D07-4E0E-B046-A361C7A7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89071-4AC4-4DBD-80E6-4A5054F6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9B7-45D8-4802-AB5D-DD4D77AF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57C35-7046-479D-A592-93EAB6E3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EF10C-A6A9-4F4F-BE4C-DE1787DF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A5AD-67DA-44A0-829B-0318690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0DB43-F0E3-4355-8B8D-229E858D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F37D-DA31-4B7A-BEB9-2EBFA60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9470A-45B9-41EF-B9B8-D307E336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2EFD5-CF29-4B58-94EC-9257D720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306CC-BE5C-49C7-8CBC-8192316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82BE0-744D-4B97-B96A-8EF7EBB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F7102-56B4-4266-9E43-EC74A056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542B-03B4-4079-BA7A-720260D2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D0D91-D13F-40BA-B341-AE5E8E1E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24530-A357-4F5D-B203-6E9E822C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EA4D8-3E6A-4C57-9285-3678219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D69D6-7DFE-4383-A1D4-EA7EEBF2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F1235-9A25-47CA-A7FD-3C7FC5FF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89CDC-1A17-4270-AEBE-F5A604C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5F95C-C151-4C6F-AAD1-041B4940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6FB0E-4E34-4513-98AB-0582F70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825C-9406-428C-B160-5210547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15479-359D-4DC8-9DCA-0D6AD7E2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D3B4-DC71-446D-A900-312A214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2F70E-E33B-4078-AC5A-4F22598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93A0-3785-40B6-ACDB-FFD042F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A5796-D1B2-4E4A-8FFE-F2C267D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882D4-50A2-46A4-9FCC-85336667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00558-6D11-4796-8312-DD8662C3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36301-CBDC-4E20-A902-0B26AAA2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499A6-ED5C-4CAC-8386-1F5A8C46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D13BE-9C13-41B3-BA22-B94F572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13AEF-9499-4464-9F67-0D51A063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4BCFC-91F8-456E-9E9A-C2EA61F6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68D9-CDB1-41E8-B54B-D7B6653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8D0C4-10B2-4EFA-9136-1F362D1B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ECA59-9600-4BEA-BF06-D562F3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A6018-08F9-4F0E-862C-C282B339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B0F05-04E3-442A-BD3C-7FA285A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736E6-F4EC-4A56-8689-287EEA76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DA12E-DCE9-4C5A-A57C-6B400159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03ED5-4372-45BF-9C2A-60BF0647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E3E9A-E858-4EC7-BF2A-23503040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04D45-C3DD-4FA2-B5D6-16FCDD92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34330-C4DB-4B2B-A37A-BEE1291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1429-77A6-4D24-B911-9AF9D263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F69AF-078D-4A8B-8027-5895793A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6C482-0B43-4D3A-9EC7-289F88F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B1F8B-D250-4467-AF31-4E7A91C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A9949-8808-41AA-AC1D-2DF19CD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5D285-17CC-4C0D-8039-A1D1249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C4ED7-6537-4ED5-BBF6-972F883D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3577E-D213-458B-AFA2-39A46BF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5B6D4-4435-4689-9134-E3CE5292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2CF5F-0883-4F00-8131-1D0D9CDC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CAB73-783B-41C9-B8ED-CC8772FE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1800-3151-4D1E-9891-08F348B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3C081-1895-4745-BFDF-B5B7F69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3A89A-2DE9-4FB5-87A9-932DB962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87AA9-0452-4286-8759-D382A68F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7F3A1-C2A0-4BE5-80D3-2E9FB4E7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FF5E4-68F8-472B-AA70-C3D81E1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F0A02-C2EE-4F05-974F-100A5CF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1E829-06A2-4ADF-B643-75AFC0C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0DD2F-C9A6-4F96-8D8F-E61CA31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E777A-7B5F-4D4E-B20B-D9963AB9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67678-2B0A-428B-AB92-C10764BF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00F-5ACE-4403-8D30-4965A843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0D59E-980D-41C3-B8D8-B3DD4301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41631-6AE5-4095-8120-7B676F27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677CF-8F58-4A67-B410-7A0AEB05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3B1E1-619D-4CB0-84A3-EC41D7D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D104E-2B33-4EA7-8AF8-6111F90D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A8FAD-F5BF-46B2-AA17-6815F83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EC661-8F1F-453D-B8C0-D2052147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9BC78-D546-483D-9388-4CF1CE3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CC5E0-BF82-4F31-ACC7-37A00545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577DB-9265-4BA3-97E8-3210CE0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6ECC-F72E-4485-927B-B893DF8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F9CE5-665E-4212-AFB3-1C438617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CA1B6-65A5-4D74-8BED-5159798F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83156-CCDA-4D36-BC19-0DAE6B41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8E88B-B6AE-4944-BF1A-2DA0FB0D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4A35F-3295-4365-8A5B-E6CB9F6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EF282-B412-4B65-B48B-1A90C1C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75A00-AE56-4D71-8F0E-62A0CAB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0D4F3-9725-47E5-9F3B-33D00AB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17356-2FCD-4E8B-A8E9-836FA55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41EFF-BCEF-471B-BDEA-AA0F0FA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885-7A26-4937-A0B2-7DC79CF9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87C-1B29-4A67-96B2-E1B996F5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11A4E-E37B-41EF-BB96-8E478CF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1EB33-F88A-49E6-9DCA-FCAAA0C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A1BBE-AB87-405E-B335-1C07E0C4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FB36B-1339-411B-8B80-0DDEC3D8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B476F-8C84-465F-8D1D-8D0ADF94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A6CE0-D282-4C46-94C1-DC764E6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AC8F8-9078-4FED-9C05-407BFFAF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354D7-2211-4906-B8C7-E3A2F335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EFD88-E3D4-45D2-BEF2-E9BEC23E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B9B5F-EB43-4560-84A8-0CDD42D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BBF6-5051-4679-B3CD-CAD0E44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043EC-CC4B-48CE-B005-CE53ACE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E3F3B-45E9-49AD-80AB-5B1917F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032B0-0700-49CA-8F56-133E655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A608F-7467-48AE-A527-9022633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2BE97-FF0E-4F17-8A77-38B9CD17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4E46E-B627-45C7-B9C8-ABFE58B0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EBD37-997C-4519-A3EA-261B1209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61B2E-CF15-44EF-9525-B9B28176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9865DD-C057-4312-8C7C-B898B47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DE88D-EFFE-4EE4-98C7-3231E9F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897A-2767-483B-98C1-2054D83E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ADFE5-D3CD-4893-8F9F-B7ED70EE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67895-1D03-48BF-8D04-E46737A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44435-3A0F-422B-9C78-73DE58B2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EDDFD-8468-426C-9413-1F67447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8FFD8-2506-4CC1-838F-A221554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1783C-10D6-4FED-BFD9-EF67372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2F702-D30F-43CB-BBE8-38F8AF3B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8572A-5C24-4779-AFAE-183B9CBE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43DEC-9107-4006-AEF1-2EFAF541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105FE-2943-4058-AB61-76BD5391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376-437C-4ABF-8B03-EF2D2600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3D501-399E-4621-BB11-9742259F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60886-4373-4125-A009-73B43C3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24FD0-64CE-4235-B28B-EA4865D7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50547-F586-4911-9BA8-13CC2C6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4A01B-E7CC-4B04-97B0-59E4FFF3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B9B21-AF42-44F2-819C-3F9AB379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A3482-7835-4AD7-94FC-DBCB7E1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185E9-4120-4F89-AF67-23C3D38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56CF8-E9FF-4031-A225-4AECD4E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20094-7A0A-485C-B70B-894B480A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1129-A3D3-4525-98EC-63577E64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571A8-08FA-414D-BCE2-4C197939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CC486-B054-4DEC-8A22-8AEA765D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A870C-8BB6-433B-B99F-081CF3ED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7A0FD-C595-4EF9-8A0F-AB189D1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F8CC0-4C26-4875-9444-623AA6B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BE5E0-068A-4D6F-A393-852B8C1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05111-A3BF-4230-8B13-43B02A0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2D1FC-C840-4B61-A585-C6047C8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02455-E7A8-4D29-8BEA-A2851B0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507BA-F737-449F-A365-1D6708D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A5EA-2C1A-4C57-AE03-0CC046BB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1954B-EC40-4CDC-B082-594ADB6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6CB9B-4E09-41DB-B3A9-39C6F4B7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D9CF4-C96E-46AC-A7C7-01EC0763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68DA-C625-4102-805A-4C08F91C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4EA0-EA10-40BA-A5F4-C6E6398C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621A-C02B-4711-8B2C-6FE16D0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A984-6BB0-4CCD-B2D9-00EB50D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8B1-98EF-46CD-9253-FA4B498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FD1C-AAF9-4810-9724-BAC4D59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E296-58F4-43C1-A7D4-BDD6CE0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D182-D990-42EE-8494-B97142D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1E41-0B67-43DB-9AE7-7F5755E4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4BB5-885D-405C-B8FF-3EFDCFB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7AE0-853B-4E25-943C-D19AB1C3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5EBB-C3A8-4BFB-BE3C-676DFDFB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6DC7-19E7-4F3C-91F0-931A17E1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3A11-0537-433A-AC66-26AC1AA8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6119-ADBF-4722-8A95-C85657D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901-D3E0-496A-A9B6-F6EADC2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0355C-CF3E-4789-A681-5E45B4F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B7E8-ED1E-441B-9F1E-A4B5187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7E00-E75A-45EA-8486-F6E2F535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FCB3-CCE7-4D94-BABC-ED672802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C31F-C384-420A-9AC4-D205FEB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6F26-0AD8-477C-BCCE-47FE5A1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5578-D590-4ADC-82A6-4C893D1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D8C6-1D89-4EB5-B5E0-FD6492CF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CD15-A080-4BFD-8F23-A5638CB0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943B-C3B7-4DC1-909B-1D52A07E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AF7-F0FC-4667-B989-194EFEB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49F5-ADF5-447D-9BD7-4390523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9190-AD53-4E5D-A9B8-BAC60A39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F43E-2F83-488D-A361-7DAD006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7D2D-8DE9-4555-8D05-05A1021E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24577-8333-47BB-AF2B-706C90BB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7ED8-591C-4327-896D-A56D187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8579-5ECF-4F14-82EB-54A0B3C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6427-6562-48E5-8200-26CEA801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91A7-2A24-400E-9C99-1E537E65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5BBBE-AEA4-40F0-8726-8E78E525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A60-8B25-423E-8DA6-8C2970EA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B12F-62F4-4193-8D5B-B8B664D1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F613-4210-48DC-AD7E-56D968F7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BBAF-9404-4A79-B92C-EF737CF8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CC27-BCC8-492D-A247-244718C7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13974-CC46-4F55-85DF-8CD6C0C7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C700-94A4-4F2B-81E7-17908E2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35933-8CA8-4D1E-AAE0-62EEFCA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6427-156E-448B-9EB1-B9909F2C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E01D-C73F-446D-A6BB-74B35E8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9AE09-0760-42B7-8F19-5F5F5BC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7A0-C13D-4037-B091-A7096B9B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00A3-87FF-4B7B-BDAD-9ABAD68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0684E-6C2C-4DB6-93C8-4B49E37B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34E69-5D71-48D3-B6F3-CECD1379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3B6C-D4D7-4AEA-B281-AEF911BD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896C-2EA7-4973-B2E2-E21C435D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26A7-A696-4F21-B7BF-AED9C5F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A196A-6A48-4BEF-A12F-5DB88E8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C63B-9927-4D97-9AD8-C94C7559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C3B6-F2DE-4904-9FD3-F8DD59A7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CBDA-9149-4A8E-84F9-1EDA1D1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EFB-FFF4-4265-A8C0-2580D4E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8B72-08CC-4C02-ABE4-133DDE5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D2652-687F-4E8C-AAAC-A67171B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E606-F9F0-4DE5-B141-628684E9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D5626-2118-4162-A8E3-48C9F6CB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09CB-9E8C-497D-8CF5-D53AC28D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2902B-918A-4A8F-A3F4-B0E7E68E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7537-29E6-42F5-8040-9CDBA074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74DD-CE55-4C27-BEF0-F368D7DC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9C9DF-4802-42B4-A614-87ADF92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0EE9-6624-4FDF-A660-0B919FE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272-FE1C-4B6B-996C-31BC2B3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7DFE-EB22-4DD5-9F2A-B0087BF6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56F2E-6752-4387-AB3A-542B3BC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E42D-4449-4E40-97B5-511AFEE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51056-10C1-4A75-8165-018E50D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96F65-C3F1-41BB-BF94-483D799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34515-BBDE-43C5-ADF8-34184BFE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E4327-E8E4-4D1F-8935-CA380C6A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60413-55BB-40A7-BAFC-7AB90DFC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F5DF-F7AA-40D8-9A0B-1350736A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5DD22-AEC0-44AC-BFEB-B7FB020D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387-636D-4919-8A03-82220ECD3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6D53-3769-45CF-B5C5-8CBE2D9A35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3B3-1ED0-477C-8F2E-1E63678A8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AE50-3DA3-4460-B9A7-F2A0065CAB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241D-4554-4833-8BF1-E58A0CA15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A4F0-9E15-4243-ADD2-D898D533F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427F-9169-4C77-B369-BE43F1247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495C-D1B5-4CA5-B194-4893D57A2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10D-04D5-4F77-AD5A-05038DD47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AF47-32A6-477D-B97D-82574C8657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0EDD-808F-4F81-9340-CD4665F28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0B5D-0787-4AF8-84EE-EDC5A3D6D8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9E6C-B19B-4012-8F16-A546E44CA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ADAE-95AC-45E3-9F89-D2ABCED5E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BA7B-688F-4000-AA77-B13B5043F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C07-5732-45B9-B0C9-9EB4438FD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C02A-B0FA-4889-9875-F027F62D5A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04E-2B22-44EB-9D6B-31940777B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D7C-A706-4286-A2C5-FE81F30D1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9DB-98FC-4942-BA75-965E1C133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152-F738-49FD-B377-E81B4C960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45AB-020D-48B3-9A70-DCC5BACB9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8C5D-2085-4155-9788-648D33801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1C7-B011-4A83-B2F9-5EEBB978F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D46-314B-439B-A27C-1C3D5BB7E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37B7-8AF0-48C6-BA74-A3A45E54A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1133-0255-41B0-A50A-920D4BE44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4FBB-79FE-428C-9DA1-BE400C7330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D2B-22C4-4320-AAA6-8B1512589F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2DF-F674-4140-9B42-09F080D8F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420-8A9A-48F2-A6A6-02BD3F81B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FFEB-0787-483D-A441-9692FD174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1C6-8B85-40C4-8D71-B3D689DD2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C106-BBFB-4511-A0D1-EA6DE5D12F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76D-AD05-432D-86EE-A8CE29C73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AC0-FF82-4087-9146-DBC7EF887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6CF-CA20-4CDC-ADE6-F5374E0563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822-D23B-492A-AFD1-E2993F8CA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7E9D-2B25-4AAF-8DB6-9410B256A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89E5-62DD-4E66-BB37-8EBE26207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52600" y="3200400"/>
            <a:ext cx="4438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1604880"/>
            <a:ext cx="8858160" cy="3648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1224000" cy="350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932360" y="2637000"/>
            <a:ext cx="1224000" cy="350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948360" y="2627280"/>
            <a:ext cx="936720" cy="351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763640" y="2989440"/>
            <a:ext cx="863640" cy="32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948360" y="2995560"/>
            <a:ext cx="936720" cy="297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948360" y="3303720"/>
            <a:ext cx="1440000" cy="323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140360" y="3635280"/>
            <a:ext cx="1223640" cy="297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547640" y="3943440"/>
            <a:ext cx="1079640" cy="296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867280" y="4591080"/>
            <a:ext cx="107964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52360" y="1609560"/>
            <a:ext cx="8639280" cy="36388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411280" y="1944720"/>
            <a:ext cx="503280" cy="297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164360" y="1954080"/>
            <a:ext cx="936720" cy="297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2484360" y="2290680"/>
            <a:ext cx="863640" cy="273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380360" y="2286000"/>
            <a:ext cx="1295280" cy="272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2411280" y="2603520"/>
            <a:ext cx="863640" cy="272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236000" y="2603520"/>
            <a:ext cx="1296720" cy="272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1476360" y="4600440"/>
            <a:ext cx="1150920" cy="2732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1332000" y="4923000"/>
            <a:ext cx="1368360" cy="2728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3924360" y="4600440"/>
            <a:ext cx="1368360" cy="273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1"/>
          <a:stretch/>
        </p:blipFill>
        <p:spPr>
          <a:xfrm>
            <a:off x="3870360" y="4913280"/>
            <a:ext cx="1368360" cy="273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2"/>
          <a:stretch/>
        </p:blipFill>
        <p:spPr>
          <a:xfrm>
            <a:off x="6443640" y="4591080"/>
            <a:ext cx="1368360" cy="272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3"/>
          <a:stretch/>
        </p:blipFill>
        <p:spPr>
          <a:xfrm>
            <a:off x="6443640" y="4925880"/>
            <a:ext cx="136836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166680" y="1000080"/>
            <a:ext cx="8810640" cy="485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00000" y="3203640"/>
            <a:ext cx="1368360" cy="2728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4572000" y="3203640"/>
            <a:ext cx="1368360" cy="27288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8376" descr=""/>
          <p:cNvPicPr/>
          <p:nvPr/>
        </p:nvPicPr>
        <p:blipFill>
          <a:blip r:embed="rId4"/>
          <a:stretch/>
        </p:blipFill>
        <p:spPr>
          <a:xfrm>
            <a:off x="568440" y="4214880"/>
            <a:ext cx="4267080" cy="1571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156360" y="4681440"/>
            <a:ext cx="1079640" cy="2732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8459640" y="2492280"/>
            <a:ext cx="432000" cy="2732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8459640" y="2871720"/>
            <a:ext cx="432000" cy="2732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8459640" y="3294000"/>
            <a:ext cx="432000" cy="273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8542440" y="3697200"/>
            <a:ext cx="431640" cy="273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8459640" y="408636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1"/>
          <a:stretch/>
        </p:blipFill>
        <p:spPr>
          <a:xfrm>
            <a:off x="8532720" y="450864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2"/>
          <a:stretch/>
        </p:blipFill>
        <p:spPr>
          <a:xfrm>
            <a:off x="8532720" y="489744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3"/>
          <a:stretch/>
        </p:blipFill>
        <p:spPr>
          <a:xfrm>
            <a:off x="8459640" y="5310360"/>
            <a:ext cx="43200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33:5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